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DD64D-760C-4E51-82BF-671FD4CBD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71BA0-E0AC-4F65-B842-F1FC82023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A9191-58FD-4F10-9301-65F4A19FF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75BD7-AC4E-4479-8576-5AB50A641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alumn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251AC-B2FD-4FD6-8F28-98679C9E3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9C532-9252-4C60-9271-E31037591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9B8F13-8F94-444F-8B7F-2E92190C8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BBA0E-1CEF-4F9D-909D-E78F4E4FA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19E48E-0E5B-46DE-A0EA-C0E4BD8D9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4EA92-85D1-4C32-8CC6-954B09D7F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7518D-377F-426D-AC8D-2AB7BA3CF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414AF-5255-4A53-9E1E-C31986939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4D4A1-FC96-4A3B-B2B6-EC78B0B67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DEFA9-D0F6-4274-B3F3-BED9C3F9E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3504C-0EF4-4A0A-8071-9B381C6AA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D189A-BF89-4E75-AA7E-360034270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238B8-A6E2-44FC-9640-F0CE427C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680F5-A2B0-4FF4-95C7-4972E80EF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96362-A89C-426C-96D4-21DA06C9B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28F03-360B-43D6-9731-3FBF7AED86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13E78-0C43-4DD1-BF6A-402062C5F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44B-6211-4461-9FAB-2E5C2593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B5F-0F66-446C-9D2E-620ADF1E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921-06C5-4401-A980-A01ED568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58E-571F-48B6-A923-1A96CB9F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9C1-5E6A-4D2F-B1A5-3A1203B6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542-8E88-449C-87C8-02F51644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DBB-E5C1-4369-8426-3980DF92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AE0-044A-4F7E-B0DC-E4FF78F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C86-E996-4312-AAB7-1120F6DA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C2D-3D5C-4C39-B979-B36DA56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761-38DE-4677-A717-932334D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BE4-FC08-42DC-BD95-AC80BCDF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F4982-0BC0-4F64-B870-D658210640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6A010-2A96-40B3-9661-A3FB1E7B7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F02B23E-75A9-45C7-A7FC-08D7F69D1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634CE2E-B7DF-4673-9E1F-0A1DD4185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FBA983F-24BE-433B-A2CE-E915AFCF2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4CBFD66-1FEC-4D28-8CB8-B6656F196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4E2657E-48EB-4BE2-8E15-8D171D437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5FBBC2D-467B-4570-B492-D6E1B27AF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A591748-E5BA-4967-B8B5-BA9708CD0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DD820D4-12DB-49E2-97C4-9ED9CC1B7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EC97AAD-E835-45A0-9121-0AD4E28A1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A146F26-13A1-4CC4-B08C-E24764665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mera parte.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gunda parte.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rcera parte.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arta parte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inta parte.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5476163-2FDD-4CA2-8119-44ABF1220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798740-1343-4CE3-89B7-005833DF2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1A6A4F0-ED0C-4194-95FD-9A71417DF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 término de esta sesión, los alumnos sabrá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5E95EFB-2216-4D40-B3F0-E20E1639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20497EB-DC81-4B85-B99A-566D4C58B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A783A39-1C76-4E0B-BD46-1F38947DB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B17F07D-1FB7-4EB1-B879-7E03CCB46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EE1FA84-754B-4DCE-82CE-E9D3DAF59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38D5E6F-3E29-4881-A9C0-BC16C88D4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08C495C-A2CC-44AB-AF8A-23A48D3FE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5A0D6FE-2236-4912-BA1C-354426203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75514D2-91A1-46CD-A76F-EA650EC79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4T21:32:56Z</dcterms:modified>
  <cp:revision>181</cp:revision>
  <dc:subject/>
  <dc:title>Introductory Cybercrime Training for Judges and Prosecutors</dc:title>
</cp:coreProperties>
</file>